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3A99B-D7CF-4650-96EE-EF616DDA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78DA-9B9B-4893-9E3A-3C7820EB7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B82D1-4EE5-4CE2-B792-599ECD270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ADDD7-D3C1-4E96-ADC9-DF3C1F3C3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5EB7-0E55-490E-AF5A-2A073C27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8AE8-8D00-4171-8C45-D94F165A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57B8C-C559-4D56-8EBB-2572C732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66D7-2402-4143-ACBD-7351C2E0B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9A68F-771C-4B2D-8009-C538C04E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84A2F-D824-49A4-BD21-725A7FC3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06CCF-0737-4CC9-B53D-4E56A8D6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F8DD-3585-407C-BE14-B7A5B2F0F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88E-7836-4B34-9B27-4064FE21A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aly</a:t>
            </a:r>
            <a:endParaRPr b="0" lang="en-US" sz="4400" spc="-1" strike="noStrike">
              <a:solidFill>
                <a:srgbClr val="000000"/>
              </a:solidFill>
              <a:latin typeface="Arial"/>
            </a:endParaRPr>
          </a:p>
        </p:txBody>
      </p:sp>
      <p:sp>
        <p:nvSpPr>
          <p:cNvPr id="43" name="PlaceHolder 2"/>
          <p:cNvSpPr>
            <a:spLocks noGrp="1"/>
          </p:cNvSpPr>
          <p:nvPr>
            <p:ph type="subTitle"/>
          </p:nvPr>
        </p:nvSpPr>
        <p:spPr>
          <a:xfrm>
            <a:off x="1143000" y="2133720"/>
            <a:ext cx="6781680" cy="2133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Patton Park, Caroline Curran, and Perri Ann Morri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Geography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Perio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lph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s-</a:t>
            </a:r>
            <a:r>
              <a:rPr b="0" lang="en-US" sz="3200" spc="-1" strike="noStrike" u="sng">
                <a:solidFill>
                  <a:srgbClr val="000000"/>
                </a:solidFill>
                <a:uFillTx/>
                <a:latin typeface="Arial"/>
              </a:rPr>
              <a:t>Enchantment of the World Italy </a:t>
            </a:r>
            <a:r>
              <a:rPr b="0" lang="en-US" sz="3200" spc="-1" strike="noStrike">
                <a:solidFill>
                  <a:srgbClr val="000000"/>
                </a:solidFill>
                <a:latin typeface="Arial"/>
              </a:rPr>
              <a:t>By R. Conrad Stein, pg.11-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side Italy </a:t>
            </a:r>
            <a:r>
              <a:rPr b="0" lang="en-US" sz="3200" spc="-1" strike="noStrike">
                <a:solidFill>
                  <a:srgbClr val="000000"/>
                </a:solidFill>
                <a:latin typeface="Arial"/>
              </a:rPr>
              <a:t>By Ian James pg. 4,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NYSTROM Desk Atlas</a:t>
            </a:r>
            <a:r>
              <a:rPr b="0" lang="en-US" sz="3200" spc="-1" strike="noStrike">
                <a:solidFill>
                  <a:srgbClr val="000000"/>
                </a:solidFill>
                <a:latin typeface="Arial"/>
              </a:rPr>
              <a:t> By Herff Jones pg. 1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 y="0"/>
            <a:ext cx="914724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eneral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58,145,32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Italia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ital- Rom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came nation state in 1861</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ficial name- Republic of Ita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aly’s culture</a:t>
            </a:r>
            <a:endParaRPr b="0" lang="en-US" sz="4400" spc="-1" strike="noStrike">
              <a:solidFill>
                <a:srgbClr val="000000"/>
              </a:solidFill>
              <a:latin typeface="Arial"/>
            </a:endParaRPr>
          </a:p>
        </p:txBody>
      </p:sp>
      <p:sp>
        <p:nvSpPr>
          <p:cNvPr id="49" name="PlaceHolder 2"/>
          <p:cNvSpPr>
            <a:spLocks noGrp="1"/>
          </p:cNvSpPr>
          <p:nvPr>
            <p:ph/>
          </p:nvPr>
        </p:nvSpPr>
        <p:spPr>
          <a:xfrm>
            <a:off x="380520" y="144792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lors are green, white, and 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ts of famous art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n for their pizza and spaghet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ed 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 percent Roman Catho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are judged by the way they dress and carry their selv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44792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0"/>
            <a:ext cx="9372600" cy="62294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revi Fount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6840" y="1523880"/>
            <a:ext cx="8077320" cy="46022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Trevi fountain is a very famous fountain  in Rome, Italy</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Trevi fountain was built in 1732</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re is approximately 3,500 dollars thrown in it each day </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It is part of the aqua Virgo witch supplies water to ancient Rome</a:t>
            </a:r>
            <a:r>
              <a:rPr b="0" lang="en-US" sz="3200" spc="-1" strike="noStrike">
                <a:solidFill>
                  <a:srgbClr val="00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372600" cy="77724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talian foo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 meal in Italy has no main course there is the antipesto  next is the primo the next is secondo then the contorni next is the salad called the insalata then the dol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is a giant peninsul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 is  fore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is wa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is wild pasture la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 is farmla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ome to the Apenni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dering countries are Austria, Switzerland, France and Slove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54:33Z</dcterms:created>
  <dc:creator>Perrimorris</dc:creator>
  <dc:description/>
  <dc:language>en-US</dc:language>
  <cp:lastModifiedBy>Perrimorris</cp:lastModifiedBy>
  <dcterms:modified xsi:type="dcterms:W3CDTF">2009-02-09T19:06:55Z</dcterms:modified>
  <cp:revision>5</cp:revision>
  <dc:subject/>
  <dc:title>Italy</dc:title>
</cp:coreProperties>
</file>